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8B9-698E-40AE-A868-D0DA82CD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1D4-78E3-4EFB-A99C-19632033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46E-A9C8-4343-8AC6-3FE0D792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70C-9C02-485F-ACC0-285CCBC9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126-A3DB-4FC7-ACDB-65505A94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600-8D50-430F-A4F5-491B3903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85D-0F42-4430-A888-371E839C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C4F-01D0-4E14-B2D4-6267B79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295-22E2-4C6A-8725-477504E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A71-08B7-4546-A506-B9E1B2A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5C5-F4F5-4AA3-A766-2EECFF64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FA3-F14B-4982-BDD9-9E81277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CF3-E88B-4AA3-91D6-FC595553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43000" y="3165480"/>
            <a:ext cx="457200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104760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560" y="2955960"/>
                <a:ext cx="3560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8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6560" y="2724120"/>
                <a:ext cx="58532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cessed unit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6560" y="3510000"/>
                <a:ext cx="55994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6560" y="3797280"/>
                <a:ext cx="19908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 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560" y="4035600"/>
                <a:ext cx="4716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6560" y="4600440"/>
                <a:ext cx="254484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3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6560" y="4851360"/>
                <a:ext cx="417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6560" y="5410080"/>
                <a:ext cx="3845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812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63680" y="5934240"/>
            <a:ext cx="547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e Quality rate analyzing the defects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01800" y="218916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11520" y="1798560"/>
                <a:ext cx="282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705040" y="1442880"/>
                <a:ext cx="2397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42800" y="151776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65320" y="229500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12680" y="2201760"/>
            <a:ext cx="253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22600" y="220176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768920" y="16887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003320" y="1704600"/>
            <a:ext cx="0" cy="13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546360" y="21142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99036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528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990360" y="18050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752720" y="182088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19160" y="18860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752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600" y="1744560"/>
            <a:ext cx="289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40280" y="1866960"/>
            <a:ext cx="13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20840" y="20718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4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70280" y="199224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2680" y="248760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90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00040" y="235728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952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03320" y="2754360"/>
            <a:ext cx="3765600" cy="5014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51160" y="2754360"/>
            <a:ext cx="357120" cy="50148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47880" y="2754360"/>
            <a:ext cx="223920" cy="50148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11400" y="2754360"/>
            <a:ext cx="534960" cy="50148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3680" y="1047600"/>
            <a:ext cx="5472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rst step: consists on transforming the problem data into the elements included in the OEE formu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n, the OEE rates in both situations (BEFORE and AFTER) can be calcul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 rot="16200000">
            <a:off x="2282400" y="3186000"/>
            <a:ext cx="3744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 rot="5400000">
            <a:off x="2524680" y="342036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 rot="5400000">
            <a:off x="3243600" y="3236760"/>
            <a:ext cx="4572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2920" y="367812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+6+…+6 =55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92520" y="3487680"/>
            <a:ext cx="284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2+5+3+6 = 1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3+3+3 = 9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11480" y="392580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0+65+…+67 = 713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87440" y="4402080"/>
                <a:ext cx="3655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3-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7440" y="4842000"/>
                <a:ext cx="43401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87440" y="5205240"/>
                <a:ext cx="4438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440" y="5767560"/>
                <a:ext cx="3773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31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7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4880" y="5919840"/>
            <a:ext cx="547236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OEE rate has decrea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Quality rate has decreased… It seems to be a non effective solution… According to the theoretical chapter, when applying source inspection and Poke-yoke strategies, the defect rate will increase because many of the process defects that went undiscovered previously are going to be det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 rot="16200000">
            <a:off x="2377800" y="2551680"/>
            <a:ext cx="37476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 rot="5400000">
            <a:off x="2620800" y="2786760"/>
            <a:ext cx="833400" cy="53208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 rot="5400000">
            <a:off x="3340080" y="260352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7960" y="304488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6+14+…+2 = 83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87920" y="2854440"/>
            <a:ext cx="284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3+4+1+7+1 = 1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3+3+3= 9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6880" y="329256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81+70+…+69 = 725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974880" y="3921120"/>
                <a:ext cx="3654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5-8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766800" y="4362480"/>
                <a:ext cx="4340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871560" y="4724280"/>
                <a:ext cx="4425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82640" y="5286240"/>
                <a:ext cx="377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9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V="1">
            <a:off x="3060720" y="16617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08080" y="1568520"/>
            <a:ext cx="25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18000" y="15685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863960" y="10551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098720" y="10717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41760" y="14806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08540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623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085400" y="11714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847760" y="1187280"/>
            <a:ext cx="34920" cy="1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4560" y="12524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847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47640" y="1111320"/>
            <a:ext cx="2891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15880" y="14382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4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65680" y="135900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08080" y="185436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08540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95440" y="172404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04776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98720" y="2120760"/>
            <a:ext cx="3765240" cy="50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46200" y="2120760"/>
            <a:ext cx="357480" cy="50184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43280" y="2120760"/>
            <a:ext cx="223920" cy="50184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06800" y="2120760"/>
            <a:ext cx="534960" cy="50184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79520" y="4106880"/>
                <a:ext cx="3956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0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84200" y="3801960"/>
                <a:ext cx="3098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84200" y="4660920"/>
                <a:ext cx="55990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84200" y="4948200"/>
                <a:ext cx="197964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84200" y="5184720"/>
                <a:ext cx="4718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84200" y="5751360"/>
                <a:ext cx="255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84200" y="6002280"/>
                <a:ext cx="417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93560" y="6561000"/>
                <a:ext cx="3783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4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63680" y="7047000"/>
            <a:ext cx="547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ing Quality rate analyzing the defects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4880" y="144792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880" y="104760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problem is very similar “almost identical” to the Problem nº IT2.The only difference is that there is a rework, which allows recovering some un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701800" y="256068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711520" y="2170080"/>
                <a:ext cx="282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705040" y="1814400"/>
                <a:ext cx="2397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42800" y="188928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84200" y="3514680"/>
                <a:ext cx="5883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cessed unit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ewor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880" y="158112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66560" y="3355920"/>
                <a:ext cx="3946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0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66560" y="3124080"/>
                <a:ext cx="3098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66560" y="3909960"/>
                <a:ext cx="56404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6560" y="4197240"/>
                <a:ext cx="197964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66560" y="4433760"/>
                <a:ext cx="47167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6560" y="5000760"/>
                <a:ext cx="255600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6560" y="5251320"/>
                <a:ext cx="4186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66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66560" y="5810400"/>
                <a:ext cx="3770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63680" y="6307200"/>
            <a:ext cx="54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ing Performance rate analyzing the working cycle and the idle time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880" y="104760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problem is very similar (almost identical) to the Problem nº IT1.The only difference is that the production corresponds to the total production instead of the correct produ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01800" y="269388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2303640"/>
                <a:ext cx="28242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05040" y="1947960"/>
                <a:ext cx="23972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42800" y="202248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4200" y="3289320"/>
                <a:ext cx="3946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0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84200" y="3057480"/>
                <a:ext cx="3098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84200" y="3843360"/>
                <a:ext cx="55990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4200" y="4130640"/>
                <a:ext cx="234648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84200" y="4367160"/>
                <a:ext cx="4718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84200" y="4933800"/>
                <a:ext cx="255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4200" y="5184720"/>
                <a:ext cx="417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88880" y="5743440"/>
                <a:ext cx="37926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9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5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63680" y="6229440"/>
            <a:ext cx="547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ing Quality rate analyzing the defects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144792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80" y="104760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problem is very similar “almost identical” to the Problem nº IT2.The only difference is that there is a 8 hours planned stop. As a result, the load time decrea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01800" y="256068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11520" y="2170080"/>
                <a:ext cx="282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05040" y="1814400"/>
                <a:ext cx="2397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0" y="188928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137040" y="237132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74680" y="2173320"/>
            <a:ext cx="253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84600" y="217332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5320" y="2716200"/>
            <a:ext cx="3765600" cy="50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30920" y="1660680"/>
            <a:ext cx="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3160" y="2716200"/>
            <a:ext cx="357120" cy="50184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9880" y="2716200"/>
            <a:ext cx="223920" cy="50184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65320" y="16765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08360" y="20854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73400" y="2716200"/>
            <a:ext cx="534960" cy="50184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52000" y="21016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90720" y="21016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271620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52000" y="1776240"/>
            <a:ext cx="34920" cy="1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914720" y="17924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1160" y="18572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271620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14720" y="21016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880" y="1047600"/>
            <a:ext cx="547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rst step: consists on transforming the problem data into the variables included in the OEE formu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n, the OEE rates in both situations (BEFORE and AFTER) can be calcul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57240" y="1716120"/>
            <a:ext cx="2405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8 h = 8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6200000">
            <a:off x="2444400" y="3147120"/>
            <a:ext cx="37476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2686680" y="338220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5400000">
            <a:off x="3406680" y="319860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3160" y="343044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400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3960" y="1828800"/>
            <a:ext cx="133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rebuchet MS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4520" y="34495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 = 4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 = 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3480" y="3887640"/>
            <a:ext cx="250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20.280 units (2.80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52880" y="4118040"/>
                <a:ext cx="3160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ndard cycle tim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 h/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 u/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8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68440" y="4603680"/>
                <a:ext cx="3852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-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8440" y="5043600"/>
                <a:ext cx="46749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68440" y="5407200"/>
                <a:ext cx="4500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8440" y="6029280"/>
                <a:ext cx="3728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7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719360" y="2043000"/>
            <a:ext cx="1444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80 – 6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19680" y="1963800"/>
            <a:ext cx="77760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 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6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74680" y="24591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52000" y="23875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38200" y="2328840"/>
            <a:ext cx="1425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114360" y="23875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4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21360" y="1092240"/>
            <a:ext cx="13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880" y="4006800"/>
            <a:ext cx="547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gure shows how SMED methodology has not changed the breakdown and the setup time. However, the number of defects do chan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fore explaining SMED effects we will calculate the OEE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77960" y="4819680"/>
                <a:ext cx="390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-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77960" y="5259240"/>
                <a:ext cx="46432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960" y="5622840"/>
                <a:ext cx="4479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77960" y="6245280"/>
                <a:ext cx="3727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1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1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1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34880" y="6845400"/>
            <a:ext cx="547236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OEE rate has hardly changed, but this does not means that the SMED has been in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result is coherent with SMED methodology, as can be seen in the SMED chapter. SMED can be applied to achieve flexibility. As a result, the setup total time does not vary but, the time of each change decreases and the Availability rate does not va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MED methodology eliminates testing procedures and adjustments. As a result, the defects produced in these steps are reduced or elimin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32280" y="17110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9920" y="1512720"/>
            <a:ext cx="25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9840" y="151272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0560" y="2055960"/>
            <a:ext cx="3765600" cy="5014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26160" y="99972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08400" y="2055960"/>
            <a:ext cx="357120" cy="50148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05120" y="2055960"/>
            <a:ext cx="223920" cy="50148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060560" y="1015560"/>
            <a:ext cx="0" cy="13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603600" y="14252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68640" y="2055960"/>
            <a:ext cx="534960" cy="50148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047240" y="144144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85960" y="144144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0560" y="2055960"/>
            <a:ext cx="130788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47240" y="111600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09600" y="11318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76400" y="119700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0560" y="2055960"/>
            <a:ext cx="130788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09600" y="144144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055520"/>
            <a:ext cx="2405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8 h = 8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2340000" y="2487600"/>
            <a:ext cx="3744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 rot="5400000">
            <a:off x="2581920" y="272196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 rot="5400000">
            <a:off x="3301920" y="253836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8400" y="277020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00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49760" y="278928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 = 5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 = 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8720" y="3227400"/>
            <a:ext cx="250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20.100 units (2.80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048120" y="3457440"/>
                <a:ext cx="3160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ndard cycle tim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 h/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 u/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8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614600" y="1382760"/>
            <a:ext cx="1444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80 – 6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14920" y="1303200"/>
            <a:ext cx="77760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 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6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9920" y="17985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47240" y="17272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3440" y="1668600"/>
            <a:ext cx="1425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009600" y="17272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2920" y="1047600"/>
            <a:ext cx="6392880" cy="5075280"/>
            <a:chOff x="142920" y="1047600"/>
            <a:chExt cx="6392880" cy="5075280"/>
          </a:xfrm>
        </p:grpSpPr>
        <p:sp>
          <p:nvSpPr>
            <p:cNvPr id="172" name=""/>
            <p:cNvSpPr/>
            <p:nvPr/>
          </p:nvSpPr>
          <p:spPr>
            <a:xfrm flipV="1">
              <a:off x="2965320" y="22950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12680" y="2201760"/>
              <a:ext cx="253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2600" y="2201760"/>
              <a:ext cx="12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8920" y="168912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003320" y="170496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546360" y="21142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990360" y="21304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528720" y="21304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990360" y="180504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752720" y="182088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19160" y="188604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52720" y="21304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52600" y="1744560"/>
              <a:ext cx="289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Calendar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10 days · 24 h = 240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40280" y="1866960"/>
              <a:ext cx="13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EF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0840" y="2071440"/>
              <a:ext cx="1920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Load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240 h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0280" y="1992240"/>
              <a:ext cx="74916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plann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to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0 ho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12680" y="2487600"/>
              <a:ext cx="19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990360" y="24159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0040" y="2357280"/>
              <a:ext cx="11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Operating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52360" y="24159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03320" y="2754360"/>
              <a:ext cx="3765600" cy="501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51160" y="2754360"/>
              <a:ext cx="357120" cy="5014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7880" y="2754360"/>
              <a:ext cx="223920" cy="501480"/>
            </a:xfrm>
            <a:prstGeom prst="rect">
              <a:avLst/>
            </a:prstGeom>
            <a:solidFill>
              <a:srgbClr val="ffd5d5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11400" y="2754360"/>
              <a:ext cx="534960" cy="501480"/>
            </a:xfrm>
            <a:prstGeom prst="rect">
              <a:avLst/>
            </a:prstGeom>
            <a:solidFill>
              <a:srgbClr val="ffe3ab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3320" y="2754360"/>
              <a:ext cx="130824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3320" y="2754360"/>
              <a:ext cx="130824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3680" y="1047600"/>
              <a:ext cx="54720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First step: consists on transforming the problem data into the elements included in the OEE formul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Then, the OEE rates in both situations (BEFORE and AFTER) can be calculat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6200000">
              <a:off x="2282400" y="3186000"/>
              <a:ext cx="374400" cy="53316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ccecff"/>
            </a:solidFill>
            <a:ln w="1908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 rot="5400000">
              <a:off x="2524680" y="3420360"/>
              <a:ext cx="833400" cy="53172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d5d5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 rot="5400000">
              <a:off x="3243600" y="3236760"/>
              <a:ext cx="457200" cy="53316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e3ab"/>
            </a:soli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920" y="3678120"/>
              <a:ext cx="22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100+150+…+200 = 1.470 def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92520" y="3487680"/>
              <a:ext cx="284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reakdowns = 2+5+2+3 = 12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etups = 2+1+2+2+2+3+4 = 16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1480" y="3925800"/>
              <a:ext cx="336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12.000+13.280+…+11.700 = 124.680 un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(14.500 u/d theoretic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487440" y="4402080"/>
                  <a:ext cx="40734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rPr>
                          <m:lit/>
                          <m:nor/>
                        </m:rPr>
                        <m:t xml:space="preserve">uality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rocessed units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efective</m:t>
                          </m:r>
                          <m:r>
                            <m:rPr>
                              <m:lit/>
                              <m:nor/>
                            </m:rPr>
                            <m:t xml:space="preserve">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80-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8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87440" y="4841640"/>
                  <a:ext cx="43401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vailability 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reakdown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setup tim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87440" y="5205240"/>
                  <a:ext cx="46260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erformanc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tardard cycle time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operating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0</m:t>
                              </m:r>
                            </m:den>
                          </m:f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12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8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7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87440" y="5767200"/>
                  <a:ext cx="37940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verall Equipment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eciency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EE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7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49</m:t>
                      </m:r>
                      <m:r>
                        <m:t xml:space="preserve">→</m:t>
                      </m:r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4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5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7960" y="1055520"/>
            <a:ext cx="6392880" cy="5704920"/>
            <a:chOff x="237960" y="1055520"/>
            <a:chExt cx="6392880" cy="5704920"/>
          </a:xfrm>
        </p:grpSpPr>
        <p:sp>
          <p:nvSpPr>
            <p:cNvPr id="211" name=""/>
            <p:cNvSpPr/>
            <p:nvPr/>
          </p:nvSpPr>
          <p:spPr>
            <a:xfrm>
              <a:off x="434880" y="5919480"/>
              <a:ext cx="547236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rebuchet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The OEE rate has decreas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rebuchet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Productivity has increased, that is to say, it is possible to produce more parts in a working day. Quality and Availability hardly vary. Nevertheless, idle time increases. As a consequence, performance rate decreases as well as the OEE rat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6200000">
              <a:off x="2378160" y="2552400"/>
              <a:ext cx="374400" cy="53352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ccecff"/>
            </a:solidFill>
            <a:ln w="1908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 rot="5400000">
              <a:off x="2620800" y="2786400"/>
              <a:ext cx="833400" cy="53208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d5d5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 rot="5400000">
              <a:off x="3340080" y="2603160"/>
              <a:ext cx="457200" cy="53352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e3ab"/>
            </a:soli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7960" y="3044520"/>
              <a:ext cx="22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200+250+…+180 = 1.875 def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7920" y="2854080"/>
              <a:ext cx="2842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reakdowns = 3+4+4+1 = 12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etups = 3+2+2+3+2+2+2 = 16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6880" y="3292200"/>
              <a:ext cx="336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15.000+13.200+…+14.900 = 146.200 un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(20.000 u/d theoretic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766800" y="3920760"/>
                  <a:ext cx="407196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rPr>
                          <m:lit/>
                          <m:nor/>
                        </m:rPr>
                        <m:t xml:space="preserve">uality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rocessed units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efective</m:t>
                          </m:r>
                          <m:r>
                            <m:rPr>
                              <m:lit/>
                              <m:nor/>
                            </m:rPr>
                            <m:t xml:space="preserve">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-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7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766800" y="4362120"/>
                  <a:ext cx="43401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vailability 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reakdown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setup tim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766800" y="4724280"/>
                  <a:ext cx="463536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erformanc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tardard cycle time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operating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den>
                          </m:f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1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66800" y="5286240"/>
                  <a:ext cx="38019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verall Equipment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eciency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EE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27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7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20</m:t>
                      </m:r>
                      <m:r>
                        <m:t xml:space="preserve">→</m:t>
                      </m:r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 flipV="1">
              <a:off x="3060720" y="16614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8080" y="1568160"/>
              <a:ext cx="253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8000" y="156816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863960" y="105552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098720" y="107136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641760" y="14806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085400" y="14968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623760" y="14968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085400" y="117144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47760" y="118728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14560" y="125244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47760" y="14968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47640" y="1110960"/>
              <a:ext cx="2891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Calendar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10 days · 24 h = 240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15880" y="1438200"/>
              <a:ext cx="1920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Load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240 h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5680" y="1358640"/>
              <a:ext cx="74916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plann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to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0 ho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08080" y="1854000"/>
              <a:ext cx="19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085400" y="17823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95440" y="1723680"/>
              <a:ext cx="11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Operating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47760" y="17823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98720" y="2120760"/>
              <a:ext cx="3765240" cy="501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46200" y="2120760"/>
              <a:ext cx="357480" cy="5014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43280" y="2120760"/>
              <a:ext cx="223920" cy="501480"/>
            </a:xfrm>
            <a:prstGeom prst="rect">
              <a:avLst/>
            </a:prstGeom>
            <a:solidFill>
              <a:srgbClr val="ffd5d5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6800" y="2120760"/>
              <a:ext cx="534960" cy="501480"/>
            </a:xfrm>
            <a:prstGeom prst="rect">
              <a:avLst/>
            </a:prstGeom>
            <a:solidFill>
              <a:srgbClr val="ffe3ab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98720" y="2120760"/>
              <a:ext cx="130788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98720" y="2120760"/>
              <a:ext cx="130788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65320" y="229500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12680" y="2201760"/>
            <a:ext cx="253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22600" y="220176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68920" y="16887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003320" y="1704600"/>
            <a:ext cx="0" cy="13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546360" y="21142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99036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28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990360" y="18050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752720" y="182088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19160" y="18860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752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52600" y="1744560"/>
            <a:ext cx="289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40280" y="1866960"/>
            <a:ext cx="13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20840" y="20718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4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70280" y="199224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12680" y="248760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990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0040" y="235728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52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03320" y="2754360"/>
            <a:ext cx="3765600" cy="5014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51160" y="2754360"/>
            <a:ext cx="357120" cy="50148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7880" y="2754360"/>
            <a:ext cx="223920" cy="50148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11400" y="2754360"/>
            <a:ext cx="534960" cy="50148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1047600"/>
            <a:ext cx="5472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rst step: consists on transforming the problem data into the elements included in the OEE formu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n, the OEE rates in both situations (BEFORE and AFTER) can be calcul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 rot="16200000">
            <a:off x="2282400" y="3186000"/>
            <a:ext cx="3744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 rot="5400000">
            <a:off x="2524680" y="342036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 rot="5400000">
            <a:off x="3243600" y="3236760"/>
            <a:ext cx="4572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2920" y="367812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6+7+…+3 = 45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92520" y="3487680"/>
            <a:ext cx="284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3+1+2+1+1+2+5 = 15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4+4+4= 12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1480" y="392580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88+70+78+…+79 = 773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87440" y="4402080"/>
                <a:ext cx="3665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3-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87440" y="4842000"/>
                <a:ext cx="43401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87440" y="5205240"/>
                <a:ext cx="44892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87440" y="5767560"/>
                <a:ext cx="3794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9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6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4880" y="5919840"/>
            <a:ext cx="547236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OEE rate has increa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Regardless of the increment of the OEE rate, total production has decreased. As a consequence, planned stops must be reanalyzed to reduce the maintenance time. For example, maintenance task can be studied in order to improve the way they are execu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 rot="16200000">
            <a:off x="2377800" y="2551680"/>
            <a:ext cx="37476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 rot="5400000">
            <a:off x="2620800" y="2786760"/>
            <a:ext cx="833400" cy="53208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 rot="5400000">
            <a:off x="3340080" y="260352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7960" y="304488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5+8+…+7 = 42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7920" y="2854440"/>
            <a:ext cx="284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1+2+3 = 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4+4+4 = 12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6880" y="329256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7+72+…+75 = 755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71640" y="3921120"/>
                <a:ext cx="366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5-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1480" y="4362480"/>
                <a:ext cx="4329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65080" y="4724280"/>
                <a:ext cx="4437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62120" y="5286240"/>
                <a:ext cx="3813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 flipV="1">
            <a:off x="3060720" y="16617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08080" y="1568520"/>
            <a:ext cx="25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18000" y="15685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863960" y="10551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098720" y="10717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641760" y="14806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08540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623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085400" y="11714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847760" y="1187280"/>
            <a:ext cx="34920" cy="1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4560" y="12524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847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47640" y="1111320"/>
            <a:ext cx="2891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15880" y="14382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2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5680" y="135900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2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08080" y="185436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08540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95440" y="172404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04776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8720" y="2120760"/>
            <a:ext cx="3765240" cy="50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2120760"/>
            <a:ext cx="357480" cy="50184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2120760"/>
            <a:ext cx="223920" cy="50184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06800" y="2120760"/>
            <a:ext cx="534960" cy="50184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9:03:07Z</dcterms:created>
  <dc:creator>Servicio de Informatica</dc:creator>
  <dc:description/>
  <dc:language>en-US</dc:language>
  <cp:lastModifiedBy>jsantos</cp:lastModifiedBy>
  <dcterms:modified xsi:type="dcterms:W3CDTF">2006-03-29T10:50:21Z</dcterms:modified>
  <cp:revision>5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4611673</vt:r8>
  </property>
  <property fmtid="{D5CDD505-2E9C-101B-9397-08002B2CF9AE}" pid="3" name="_AuthorEmail">
    <vt:lpwstr>jsantos@tecnun.es</vt:lpwstr>
  </property>
  <property fmtid="{D5CDD505-2E9C-101B-9397-08002B2CF9AE}" pid="4" name="_AuthorEmailDisplayName">
    <vt:lpwstr>Santos, Javier</vt:lpwstr>
  </property>
  <property fmtid="{D5CDD505-2E9C-101B-9397-08002B2CF9AE}" pid="5" name="_EmailSubject">
    <vt:lpwstr>Improving Production with Lean Thinking - checked some mistakes on solved problems</vt:lpwstr>
  </property>
  <property fmtid="{D5CDD505-2E9C-101B-9397-08002B2CF9AE}" pid="6" name="_PreviousAdHocReviewCycleID">
    <vt:r8>-1362281475</vt:r8>
  </property>
</Properties>
</file>